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4BD9-29AD-443C-AEF0-D213A20F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2E3-D9C9-4516-889D-FAFA62EB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4EB9-7B14-47AC-A88B-499EE56E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C47-F397-4854-87F4-59BEC401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8736-BA3F-440A-AEE6-20B93E6E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D0D6-A99E-4B10-A3EF-38FB6F23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4427-3758-4A41-832F-17897FA3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6886-B2C5-400D-8897-B7329068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F400-0B7C-4FD5-B905-B43288F2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76FC-BE10-42F5-A735-210238C6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BDE5-9087-4CA8-9522-FE79E5DA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5B2-A46D-4928-8A3C-3F7FBDEF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EAC4-5ECE-45FB-934B-249B4CD6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DC6B-A1FB-4724-84C5-7F2067D4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17B4-0866-4D23-A251-4938A1A1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9C1F-F539-4374-9A50-1812DDDA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9BD3-9735-4493-B8C4-DB4496A3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D5499-8051-4F9F-9D2C-C10DD461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B8DC3-6ED0-4631-9456-8628FAE7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63651B-C2CF-477E-A835-61DFB83E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1AEF9-C6E7-42F2-A92E-6D340E1A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872CB-F2C1-4754-8D6D-C706B6DE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E24D-5370-4495-9879-A68B481F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9564F-AFD4-472F-A088-D98C471E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83A9E-FBBA-4CA7-9FF6-1C3A435C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8BCAF-DF47-4199-BA7F-835D4DCB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BAA50-35DA-4C32-90FF-D6A8B2E0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D921D-1CD8-43A6-9AFF-AE9DF01F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3CC2A-4E9E-4B7D-A880-D6A5C1E9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BD7D03-8CFC-4083-A429-552A8CA6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820A1D-7D1D-4E8F-8B2C-80D0658F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07B5CE-0EBE-4B95-98E1-F0E019E0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15F9B9-0816-4100-A48F-B30483A9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062-FCBA-4B62-86DA-5A089D75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1B4CDF-A5B9-45DF-B936-4365F8EB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457CF5-6157-40ED-940A-686B8634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87A33E-E424-45F7-8B0E-7E19DB01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D6819E-1912-403B-8E73-D1B06763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C94139-1A44-43A5-890D-207F3242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7349F-11BB-4445-A0E0-060DC9F6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B236EA-D745-4023-9869-64558D58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E662A9-B281-4AE5-BF9B-FB16F0B0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CD77B6-15C3-4E6C-90D6-45B38640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EC800-FD78-4008-8DFB-E93C5A78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231A-8CD7-4D7F-AD53-246A4742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1D4567-ED54-45C4-98A1-F3B6D091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0F82AE-D20D-4D25-999B-336D0880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F971F6-4B85-4ADD-A345-E58C28D5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2478A6-68DD-463E-9B4E-D455CF1B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A2A190-7781-41F8-8D46-405F1144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A1F464-6791-45FF-9B2C-B6886C28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7E6261-6EE5-4864-8B6A-F56FD4B0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3E33EE-34AE-489D-87A3-F6A4E94C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9932EB-DA63-4CCB-9A6D-5154CA52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A0D82B-A62A-467F-9BB7-045F172C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1B3C-6106-4C6B-8CB0-65247C36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0773D4-2F09-4F0A-870C-A307BF1C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47319-C4DB-4E5C-A95D-70B1F212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394A7-7D4E-4A70-B4A3-777B2686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C1888-025D-4B97-BF2E-C1805B97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90EA8-6F3E-4A62-8CF5-F5D82E0A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965B1-58FA-4CC4-B7EE-B966FCAE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C1F00-EC5D-4BF5-BD08-B72B3276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36023-3DDD-4CD3-AB6B-A609109F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F4D1A-428F-4F49-AFA7-0D267469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BB333-F4B8-4E23-8C7F-C373BD90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10D-E1E7-4CEB-BE9C-6D718591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9084F-0FF0-453D-ABA6-EB4EFF67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B9614-E39E-4FBF-883C-2673847C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3FD7B-F58D-4C62-8D0A-A55B20F3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848E65-6AFF-4BA8-90C2-52EA1A65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6D2BFF-4086-41EC-BC82-98F47139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7FB555-DE27-450A-B99C-BBFDB554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21AF0-C003-4DB2-A108-6F8E4A3C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BDF9AF-E097-4676-99F7-9C423B7E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9FBEFC-32AE-4689-9CBC-36F815E5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631486-BF5D-48DF-B8B6-FCF645C0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5AD2-773E-4D2D-973B-48574B97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268113-FCB6-4244-8479-B98DE78A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8FCF87-BF83-43ED-9136-F374B03E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D231ED-7B23-46CC-807C-9586ABA8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45A1FD-C93D-42CD-AF2E-82EF1919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99D0D3-0032-4698-849D-503DF40F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1D1E3-2BAC-45E1-A3AB-937AA209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ECE91-7FC8-479D-BA00-F57F1599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5C2CD-A6EB-4084-AEE0-DCBEB98D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26F9A-BF0E-4A8E-95B5-35D35BAF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41F3B-14FD-460A-9B51-A90C85CC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A124-48A2-4276-8700-69F78DE2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9844D-6529-40A9-86F7-55D5FB7D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3A1D2-F4D6-42FF-9526-211149C9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F3635-5F09-4A5F-B768-5572C934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E7D1F-FC7D-4037-8DE5-CEFC00AC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0DF2A-A2D7-4687-8776-E48B47D0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C787E-C382-4FC9-A5A8-7C878262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81F0C-96CB-4679-BC42-FE535390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DAEFD-A266-4D2D-8BBE-81D02522C65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7E568-1BE5-4C04-80ED-A1CE5CDBA3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FEF23-385D-4EFF-A639-83E367C6B6CC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F103A-79B0-454A-BE43-8DFE1127FC07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B399A-6B2B-4624-B1B3-62995947451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D255C-6920-47D8-A926-B3CC4B3CC27E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17297-8EA6-4E08-82C1-09770CABB4E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50EA0-7BE4-42AC-A396-D6B5F70BE9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21DB9-4532-4784-9316-4A32735E830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3AD9D-33D5-4382-B30E-1CB71206A1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3CFF4-7167-4544-A296-EAFC21CE742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26BEA-266D-49E5-B312-BE78BF8E4BA8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A87AD-18AD-4E10-97B9-8EF66F9F475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61E88-3E6A-4806-821F-55163D05EACA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8D36C-9F51-46BB-AF8C-E2B4802D4A29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0F2EC-F244-4E0C-AEF4-E048A4D346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bddc3"/>
                </a:solidFill>
                <a:latin typeface="Tw Cen MT"/>
              </a:rPr>
              <a:t>CHEZ-MOI</a:t>
            </a:r>
            <a:endParaRPr b="0" lang="en-US" sz="6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DANIELLE GILDAY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PERIOD 3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3" descr="Screen shot 2011-04-12 at 3.40.35 PM.png"/>
          <p:cNvPicPr/>
          <p:nvPr/>
        </p:nvPicPr>
        <p:blipFill>
          <a:blip r:embed="rId1"/>
          <a:stretch/>
        </p:blipFill>
        <p:spPr>
          <a:xfrm>
            <a:off x="708120" y="1082520"/>
            <a:ext cx="77738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Screen shot 2011-04-12 at 3.40.52 PM.png"/>
          <p:cNvPicPr/>
          <p:nvPr/>
        </p:nvPicPr>
        <p:blipFill>
          <a:blip r:embed="rId1"/>
          <a:stretch/>
        </p:blipFill>
        <p:spPr>
          <a:xfrm>
            <a:off x="860400" y="1219320"/>
            <a:ext cx="7129440" cy="4686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Screen shot 2011-04-12 at 3.41.20 PM.png"/>
          <p:cNvPicPr/>
          <p:nvPr/>
        </p:nvPicPr>
        <p:blipFill>
          <a:blip r:embed="rId1"/>
          <a:stretch/>
        </p:blipFill>
        <p:spPr>
          <a:xfrm>
            <a:off x="612720" y="985680"/>
            <a:ext cx="7994880" cy="4291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Content Placeholder 3" descr="Screen shot 2011-04-12 at 3.41.33 PM.png"/>
          <p:cNvPicPr/>
          <p:nvPr/>
        </p:nvPicPr>
        <p:blipFill>
          <a:blip r:embed="rId1"/>
          <a:srcRect l="-2601" t="0" r="-2601" b="0"/>
          <a:stretch/>
        </p:blipFill>
        <p:spPr>
          <a:xfrm>
            <a:off x="612720" y="1008000"/>
            <a:ext cx="8153280" cy="449604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Screen shot 2011-04-12 at 3.48.06 PM.png"/>
          <p:cNvPicPr/>
          <p:nvPr/>
        </p:nvPicPr>
        <p:blipFill>
          <a:blip r:embed="rId1"/>
          <a:stretch/>
        </p:blipFill>
        <p:spPr>
          <a:xfrm>
            <a:off x="357120" y="1025640"/>
            <a:ext cx="8408880" cy="44845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Content Placeholder 3" descr="Screen shot 2011-04-12 at 3.41.47 PM.png"/>
          <p:cNvPicPr/>
          <p:nvPr/>
        </p:nvPicPr>
        <p:blipFill>
          <a:blip r:embed="rId1"/>
          <a:srcRect l="0" t="-926" r="0" b="-926"/>
          <a:stretch/>
        </p:blipFill>
        <p:spPr>
          <a:xfrm>
            <a:off x="612720" y="958680"/>
            <a:ext cx="8153280" cy="44960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Screen shot 2011-04-12 at 11.16.53 PM.png"/>
          <p:cNvPicPr/>
          <p:nvPr/>
        </p:nvPicPr>
        <p:blipFill>
          <a:blip r:embed="rId1"/>
          <a:stretch/>
        </p:blipFill>
        <p:spPr>
          <a:xfrm>
            <a:off x="770040" y="863640"/>
            <a:ext cx="7995960" cy="43466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3" descr="Screen shot 2011-04-12 at 11.17.13 PM.png"/>
          <p:cNvPicPr/>
          <p:nvPr/>
        </p:nvPicPr>
        <p:blipFill>
          <a:blip r:embed="rId1"/>
          <a:stretch/>
        </p:blipFill>
        <p:spPr>
          <a:xfrm>
            <a:off x="612720" y="923760"/>
            <a:ext cx="8153280" cy="43945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22:44:55Z</dcterms:created>
  <dc:creator>Dani Gilday</dc:creator>
  <dc:description/>
  <dc:language>en-US</dc:language>
  <cp:lastModifiedBy>Dani Gilday</cp:lastModifiedBy>
  <dcterms:modified xsi:type="dcterms:W3CDTF">2011-04-13T12:48:24Z</dcterms:modified>
  <cp:revision>8</cp:revision>
  <dc:subject/>
  <dc:title>Slide 1</dc:title>
</cp:coreProperties>
</file>